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36A-E05C-407E-9DA8-90DC7FA2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327-5CC9-4ABA-BF44-831E79A7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3C7-9562-440B-90A2-2AF3509D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96E-513A-4734-9109-E0AE9D73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91C-9F3F-4A18-A260-7BA88ADD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5B3-A6CD-418A-B048-29CD6EF6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57D-4748-4FEE-A427-1958FD8B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210-BB6E-4A9F-A20D-77B05029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E76-C810-4D9C-8E79-56F69210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0BC-ACAA-4771-8581-3A727D4C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A54-532A-4FF2-AC5B-E8453040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21B-809C-4F4F-9542-027D3B98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1AB4-74FD-4C3D-8EBF-8D2B26AFB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Like an Impressio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471680"/>
            <a:ext cx="3143160" cy="223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250812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743200" y="4378320"/>
            <a:ext cx="27432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 of Impressionist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Visible Brush Strokes – creates a dreamy m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emphasis on lighting – painting at specific times during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rred lines creating a foggy effect – played with lights and sha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 – more variety showing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painted outdo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everyday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1440"/>
            <a:ext cx="914400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41440"/>
            <a:ext cx="914400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42880"/>
            <a:ext cx="91440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542880"/>
            <a:ext cx="91440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18:30:29Z</dcterms:created>
  <dc:creator>Patrick J. Mooney</dc:creator>
  <dc:description/>
  <dc:language>en-US</dc:language>
  <cp:lastModifiedBy>Patrick J. Mooney</cp:lastModifiedBy>
  <dcterms:modified xsi:type="dcterms:W3CDTF">2011-02-13T01:25:52Z</dcterms:modified>
  <cp:revision>3</cp:revision>
  <dc:subject/>
  <dc:title>Slide 1</dc:title>
</cp:coreProperties>
</file>